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4A5-8700-4E28-856A-A6DA3FB0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366-23CB-425C-B9E7-7CDA0259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436-54B0-4877-BA1E-19675588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965-3CCF-4D0C-AB63-D1F525F0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4E7-4F1E-447E-A507-8D7974DB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14B-BC53-4543-9674-74E8509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3F5-A4AE-44CB-9497-429D7867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EB0-D963-458A-B533-B23CB1BC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86-FACC-4AAE-A84A-CEC5783A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A50-6D14-4F94-B0A2-1437C60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454-AF02-43C0-BBAA-52C3BFF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258-1C3A-425C-B8DB-9497F0C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9D4A-457D-404F-8A50-E124F0AC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Effect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 as estimate of 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ffere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3929" r="0" b="14495"/>
          <a:stretch/>
        </p:blipFill>
        <p:spPr>
          <a:xfrm>
            <a:off x="914400" y="5562720"/>
            <a:ext cx="7238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914400"/>
            <a:ext cx="6858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versus Difference Measures of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2760" y="1906560"/>
            <a:ext cx="3720960" cy="311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Imp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86880" y="369720"/>
            <a:ext cx="566244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on formula for EF = I* /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685800"/>
            <a:ext cx="5822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re Disease 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96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3T18:18:27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